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jpeg" ContentType="image/jpeg"/>
  <Override PartName="/ppt/media/image3.gif" ContentType="image/gif"/>
  <Override PartName="/ppt/media/image7.png" ContentType="image/png"/>
  <Override PartName="/ppt/media/APPLAUSE.WAV" ContentType="audio/x-wav"/>
  <Override PartName="/ppt/media/image4.gif" ContentType="image/gif"/>
  <Override PartName="/ppt/media/image5.png" ContentType="image/pn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235080"/>
            <a:ext cx="8458200" cy="633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cc"/>
                </a:solidFill>
                <a:latin typeface="AbcBulletin"/>
              </a:rPr>
              <a:t>Guess the Covered Word</a:t>
            </a:r>
            <a:endParaRPr b="0" lang="en-US" sz="72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Spelling Words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Week 17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4572000"/>
            <a:ext cx="716292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Print"/>
              </a:rPr>
              <a:t>The 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people</a:t>
            </a:r>
            <a:r>
              <a:rPr b="0" lang="en-US" sz="4400" spc="-1" strike="noStrike">
                <a:solidFill>
                  <a:srgbClr val="ff0000"/>
                </a:solidFill>
                <a:latin typeface="AbcPrint"/>
              </a:rPr>
              <a:t> are reading the pap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419076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38080" y="5029200"/>
            <a:ext cx="7391520" cy="8251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AbcPrint"/>
              </a:rPr>
              <a:t>This is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my</a:t>
            </a:r>
            <a:r>
              <a:rPr b="0" lang="en-US" sz="4800" spc="-1" strike="noStrike">
                <a:solidFill>
                  <a:srgbClr val="9900cc"/>
                </a:solidFill>
                <a:latin typeface="AbcPrint"/>
              </a:rPr>
              <a:t> new do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5105520"/>
            <a:ext cx="91440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14600" y="990720"/>
            <a:ext cx="403848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38080" y="5029200"/>
            <a:ext cx="7391520" cy="8251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AbcPrint"/>
              </a:rPr>
              <a:t>This is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my</a:t>
            </a:r>
            <a:r>
              <a:rPr b="0" lang="en-US" sz="4800" spc="-1" strike="noStrike">
                <a:solidFill>
                  <a:srgbClr val="9900cc"/>
                </a:solidFill>
                <a:latin typeface="AbcPrint"/>
              </a:rPr>
              <a:t> new do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14600" y="990720"/>
            <a:ext cx="403848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38080" y="762120"/>
            <a:ext cx="6858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ook at th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s quickly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n we wil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pell the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gether b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hanting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09680" y="236232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bcPrint"/>
              </a:rPr>
              <a:t>it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wh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cc33"/>
                </a:solidFill>
                <a:latin typeface="AbcPrint"/>
              </a:rPr>
              <a:t>n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33720" y="220968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peo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bcPrint"/>
              </a:rPr>
              <a:t>m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95480" y="762120"/>
            <a:ext cx="3427560" cy="3871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48769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cPrint"/>
              </a:rPr>
              <a:t>Mickey says, “You did A-OK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609480"/>
            <a:ext cx="693432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 Bold"/>
              </a:rPr>
              <a:t>Say the word as the arrow points to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ff0000"/>
                </a:solidFill>
                <a:latin typeface="AbcPrint"/>
              </a:rPr>
              <a:t>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AbcPrint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9933"/>
                </a:solidFill>
                <a:latin typeface="AbcPrint"/>
              </a:rPr>
              <a:t>now</a:t>
            </a:r>
            <a:r>
              <a:rPr b="0" lang="en-US" sz="3600" spc="-1" strike="noStrike">
                <a:solidFill>
                  <a:srgbClr val="ff9933"/>
                </a:solidFill>
                <a:latin typeface="AbcPri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00cc"/>
                </a:solidFill>
                <a:latin typeface="AbcPrint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33"/>
                </a:solidFill>
                <a:latin typeface="AbcPrint"/>
              </a:rPr>
              <a:t>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23623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20040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40384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8769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6386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28800" y="4419720"/>
            <a:ext cx="144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4343400"/>
            <a:ext cx="708660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The dog hurt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its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 arm and le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4419720"/>
            <a:ext cx="685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47242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28800" y="4419720"/>
            <a:ext cx="144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4343400"/>
            <a:ext cx="708660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The dog hurt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its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 arm and le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47242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7920" y="5105520"/>
            <a:ext cx="6476760" cy="764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Who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 ate the fis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5105520"/>
            <a:ext cx="13716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25780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47920" y="5105520"/>
            <a:ext cx="6476760" cy="764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Who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 ate the fis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25780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4876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4572000"/>
            <a:ext cx="716256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It is time to go home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now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4572000"/>
            <a:ext cx="1067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457200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90720" y="4876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4495680"/>
            <a:ext cx="716256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It is time to go home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now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457200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4572000"/>
            <a:ext cx="716292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Print"/>
              </a:rPr>
              <a:t>The 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people</a:t>
            </a:r>
            <a:r>
              <a:rPr b="0" lang="en-US" sz="4400" spc="-1" strike="noStrike">
                <a:solidFill>
                  <a:srgbClr val="ff0000"/>
                </a:solidFill>
                <a:latin typeface="AbcPrint"/>
              </a:rPr>
              <a:t> are reading the pap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4572000"/>
            <a:ext cx="16765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419076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gewood User</cp:lastModifiedBy>
  <dcterms:modified xsi:type="dcterms:W3CDTF">2009-02-09T14:34:49Z</dcterms:modified>
  <cp:revision>14</cp:revision>
  <dc:subject/>
  <dc:title>Guess the Covered Word</dc:title>
</cp:coreProperties>
</file>